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E35-0521-4E31-AA25-BC125903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A89-1455-4B0D-B3E9-09C4795B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1E1-0E4F-49D1-A6A6-F0554DF5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1A2-92CA-4888-BD06-3BDF7B62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42F-2A42-49AE-9B96-B4F21609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804-44E6-41AB-A2B1-6E5BCDFB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3CF-6DC0-4F15-8EDF-F9843A88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C03-5BDC-4A7D-B23A-6D963F29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245-279F-4650-A4DE-CB395BA6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D86-6E07-422B-B738-DB51AE82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564-CD68-429F-9D82-EC6F43F3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4EF-EA4D-4177-9EDB-3BD70494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11EE-10E3-4E95-BF59-6E788035F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049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urity you can taste, hydration you can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80773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"/>
              </a:rPr>
              <a:t>Smart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87472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Electrolyte enhanc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3:16Z</dcterms:created>
  <dc:creator>WPS</dc:creator>
  <dc:description/>
  <dc:language>en-US</dc:language>
  <cp:lastModifiedBy>WPS</cp:lastModifiedBy>
  <dcterms:modified xsi:type="dcterms:W3CDTF">2008-06-02T13:41:32Z</dcterms:modified>
  <cp:revision>3</cp:revision>
  <dc:subject/>
  <dc:title>Slide 1</dc:title>
</cp:coreProperties>
</file>